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BEE3-E038-48C4-9035-50E938AD5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218C-B092-48FE-A681-44AEE715F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F58C-EFE2-472F-9E85-0E5927D43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6E70-8D75-4880-980B-D9615EFFE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4B203-0A6E-45C2-8EDE-24060DBE5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F332A-12A8-4907-AB0E-5E102CE9C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75A4E-91C2-4156-B59A-60138DDA7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66B78-D92C-4C98-B6A1-C7174D853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53BBC-8B19-4C9F-9125-73DB12C78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7F322-4D03-4530-9866-683C1FEB7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C06F5-EA2A-488F-9B1C-45D874847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2307-4B17-4C7A-B7F0-9FB0328AC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88F9D-B845-43C0-96DF-A51951F41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BC793-5239-4B67-86E6-858FCF718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13151-BE6B-49C6-94D3-CFF0F87D3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4782B-B26D-4704-86C5-93B3E1765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AC55A-0066-4EBE-B0AF-98C0C00CD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1725-2892-4EBD-BE4C-BD8384036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CFFA-5ABA-4058-A2CB-E4D8FED61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564B-D62A-4FA5-A381-DF44C6D6F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E555-39A6-441D-8ADE-213DE48DF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ECA9-0C10-4C4E-BA6A-BE1E9BAB9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DC28-46BB-416F-99C5-82323DB38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C6A7-BEE0-4018-9498-1D40D3D80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D1F7C-768B-4BA3-840B-B14A037F0B43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00AE1-6171-48E0-A57D-9CB28C45EB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ormatShape" hidden="1"/>
          <p:cNvSpPr/>
          <p:nvPr/>
        </p:nvSpPr>
        <p:spPr>
          <a:xfrm>
            <a:off x="-1333440" y="1701720"/>
            <a:ext cx="1181160" cy="825480"/>
          </a:xfrm>
          <a:prstGeom prst="rect">
            <a:avLst/>
          </a:prstGeom>
          <a:noFill/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998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39E05-0F88-4B2D-8723-650A85375293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214AD-CB3C-47C1-BDE7-15670FF625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998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ETSI and Lawful Interception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682280" y="4076280"/>
            <a:ext cx="586116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bin Gap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ir TC Sec WG 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7DF46-EC82-4177-931A-E1C5EF80DF0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P Re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scribes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ructures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mmon understa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ay point to sol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26C7-06CD-4E40-B849-CBEA76E18C0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ata Hando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2560" y="2057400"/>
          <a:ext cx="7772400" cy="43974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2560" y="2057400"/>
                    <a:ext cx="7772400" cy="439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86FF-1179-46F0-8F42-17607EE3D33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y standardis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rket avail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w c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peed to mar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w hass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ffic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5D89-28FD-4910-A703-3AC77943113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layers in ETS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per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nufactur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M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gulators &amp; Minis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aw Enforcement Ag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BB94-A431-4457-B911-BD734C5B313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is ETSI doing for dat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M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IPH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ulti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cludes vo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ther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rket dri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4459-BAEC-42D8-9B8C-3DC2CAECB7A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ere is the market go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ull steam ah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ere the demand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and mor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tail not cl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rowth will contin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7557-84C5-4F82-9270-4402CFBEAAC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Fu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ET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dopt ETSI stand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eap, for every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erocious pace of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ery hard to s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5FBF-4969-4E05-BA58-6207C493E0C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ore inf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b s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ww.etsi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ub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ttp://webapp.etsi.org/pda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G 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ttp://www.etsi.org/SEC/sec_li.h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B468-8888-43C6-8BAD-78CD87DE442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bout ETS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uropean Telecommunications Standards Instit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“standards factory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rket dri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road industry particip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uropean and Global play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E66D-ADE4-46A3-8429-21F365CFB79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STN Achiev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chnical Handover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S 201 671 v1 19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S 201 671 v2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lus supporting doc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A Requirements (ETR 33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etwork Elements (ES 201 15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1D0C-701C-4317-B2A5-52E2D38CF0E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 Major Suc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rted with 17th January 1995 Re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lled out” LEA requirements 199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etwork elements 199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andover Interface 19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vised Handover Interface 2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F734-2F48-4D86-9625-CB0565FEEC0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ructure of Hando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dminis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rcept related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tent of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pecifies the boundary on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8044-62A3-47E6-800E-64E0216CDD5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500880" y="5829480"/>
            <a:ext cx="2119320" cy="84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944800" y="1219320"/>
          <a:ext cx="6192720" cy="54529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44800" y="1219320"/>
                    <a:ext cx="6192720" cy="54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430200" y="3967200"/>
            <a:ext cx="2286000" cy="243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P = Access provi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I = Handover interface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IF = internal intercepting function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I = internal network interface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LEMF = Law enforcement monitoring facility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F = Mediation function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NWO = Network operator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vP = Service provi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E35E-139D-403D-8D35-19CC0456760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doption of ES 201 67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nufactur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uropean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orld-w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FC6E-054A-47EE-BC57-FD124D24B75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ob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SM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S 101 5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SM Intern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S 101 509 (03.3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so TET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 301 0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E63C-03FE-4741-B879-6F45D1C5615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ata Achiev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PRS Handover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 101 8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S 201 671 v2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PRS Intern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nex B of TS 101 5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port “Issues on IP Interceptio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 101 94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4F99-1473-48DC-9273-30A9FFBADD3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2T15:55:13Z</dcterms:created>
  <dc:creator>Sonia Coleman</dc:creator>
  <dc:description/>
  <dc:language>en-US</dc:language>
  <cp:lastModifiedBy>infosys</cp:lastModifiedBy>
  <dcterms:modified xsi:type="dcterms:W3CDTF">2001-06-04T05:58:49Z</dcterms:modified>
  <cp:revision>6</cp:revision>
  <dc:subject/>
  <dc:title>Title</dc:title>
</cp:coreProperties>
</file>