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9.png" ContentType="image/png"/>
  <Override PartName="/ppt/media/image11.wmf" ContentType="image/x-wmf"/>
  <Override PartName="/ppt/media/image17.jpeg" ContentType="image/jpeg"/>
  <Override PartName="/ppt/media/image6.wmf" ContentType="image/x-wmf"/>
  <Override PartName="/ppt/media/image19.jpeg" ContentType="image/jpeg"/>
  <Override PartName="/ppt/media/image20.jpeg" ContentType="image/jpeg"/>
  <Override PartName="/ppt/media/image18.jpeg" ContentType="image/jpeg"/>
  <Override PartName="/ppt/media/image16.wmf" ContentType="image/x-wmf"/>
  <Override PartName="/ppt/media/image14.jpeg" ContentType="image/jpeg"/>
  <Override PartName="/ppt/media/image15.wmf" ContentType="image/x-wmf"/>
  <Override PartName="/ppt/media/image1.jpeg" ContentType="image/jpeg"/>
  <Override PartName="/ppt/media/image3.jpeg" ContentType="image/jpeg"/>
  <Override PartName="/ppt/media/image5.wmf" ContentType="image/x-wmf"/>
  <Override PartName="/ppt/media/image7.jpeg" ContentType="image/jpeg"/>
  <Override PartName="/ppt/media/image4.jpeg" ContentType="image/jpeg"/>
  <Override PartName="/ppt/media/image2.png" ContentType="image/png"/>
  <Override PartName="/ppt/media/image10.wmf" ContentType="image/x-wmf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0" rtl="1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1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 rtl="1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  <a:ea typeface="Times New Roman (Hebrew)"/>
              </a:defRPr>
            </a:lvl1pPr>
          </a:lstStyle>
          <a:p>
            <a:pPr marL="216000" indent="0" algn="r" rtl="1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18720" y="744120"/>
            <a:ext cx="4961160" cy="372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rtl="1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  <a:ea typeface="Times New Roman (Hebrew)"/>
              </a:defRPr>
            </a:lvl1pPr>
          </a:lstStyle>
          <a:p>
            <a:pPr marL="216000" indent="0" rtl="1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3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 rtl="1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 rtl="1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091D3C37-A987-4AD4-A879-F61104846EC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1160" cy="37213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st to Cos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wo playe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ea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ahoma"/>
              </a:rPr>
              <a:t>Many playe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ahoma"/>
              </a:rPr>
              <a:t>Coach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ahoma"/>
              </a:rPr>
              <a:t>Coordin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ahoma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523520" y="3948480"/>
            <a:ext cx="7620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52352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42844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100040" y="160020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76560" y="160020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523520" y="394848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100040" y="394848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76560" y="394848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523520" y="456840"/>
            <a:ext cx="76201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52352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42844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520" y="3948480"/>
            <a:ext cx="7620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523520" y="3948480"/>
            <a:ext cx="7620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2352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42844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100040" y="160020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76560" y="160020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523520" y="394848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100040" y="394848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76560" y="394848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23520" y="456840"/>
            <a:ext cx="76201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52352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42844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523520" y="3948480"/>
            <a:ext cx="7620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Click to edit the outline text format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690840" indent="-265680">
              <a:spcBef>
                <a:spcPts val="901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Second Outline Level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2" marL="1062720" indent="-212400">
              <a:spcBef>
                <a:spcPts val="901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Third Outline Level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3" marL="1487880" indent="-212400">
              <a:spcBef>
                <a:spcPts val="901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Fourth Outline Level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4" marL="1913040" indent="-212400">
              <a:spcBef>
                <a:spcPts val="901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Fifth Outline Level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5" marL="1913040" indent="-21240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Sixth Outline Level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6" marL="1913040" indent="-21240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Seventh Outline Level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pic>
        <p:nvPicPr>
          <p:cNvPr id="2" name="logo" descr=""/>
          <p:cNvPicPr/>
          <p:nvPr/>
        </p:nvPicPr>
        <p:blipFill>
          <a:blip r:embed="rId3"/>
          <a:stretch/>
        </p:blipFill>
        <p:spPr>
          <a:xfrm>
            <a:off x="6172200" y="6111720"/>
            <a:ext cx="2971800" cy="7430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 txBox="1"/>
          <p:nvPr/>
        </p:nvSpPr>
        <p:spPr>
          <a:xfrm rot="16219200">
            <a:off x="-1052280" y="2899800"/>
            <a:ext cx="3495960" cy="742680"/>
          </a:xfrm>
          <a:prstGeom prst="rect">
            <a:avLst/>
          </a:prstGeom>
        </p:spPr>
        <p:txBody>
          <a:bodyPr wrap="none" lIns="91800" rIns="91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e9e9ff"/>
                  </a:solidFill>
                  <a:miter/>
                </a:ln>
                <a:solidFill>
                  <a:srgbClr val="e9e9ff"/>
                </a:solidFill>
                <a:latin typeface="Tahoma"/>
              </a:rPr>
              <a:t>Berlin 2001</a:t>
            </a:r>
            <a:endParaRPr b="0" lang="en-US" sz="2400" spc="1" strike="noStrike">
              <a:ln w="9360">
                <a:solidFill>
                  <a:srgbClr val="e9e9ff"/>
                </a:solidFill>
                <a:miter/>
              </a:ln>
              <a:solidFill>
                <a:srgbClr val="e9e9ff"/>
              </a:solidFill>
              <a:latin typeface="Tahoma"/>
              <a:ea typeface="Tahoma"/>
            </a:endParaRPr>
          </a:p>
        </p:txBody>
      </p:sp>
      <p:sp>
        <p:nvSpPr>
          <p:cNvPr id="4" name=""/>
          <p:cNvSpPr/>
          <p:nvPr/>
        </p:nvSpPr>
        <p:spPr>
          <a:xfrm>
            <a:off x="3997800" y="6627960"/>
            <a:ext cx="112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ompany Confidentia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" name="Globe%20image%20for%20ppt2" descr=""/>
          <p:cNvPicPr/>
          <p:nvPr/>
        </p:nvPicPr>
        <p:blipFill>
          <a:blip r:embed="rId4"/>
          <a:srcRect l="0" t="33496" r="47801" b="17383"/>
          <a:stretch/>
        </p:blipFill>
        <p:spPr>
          <a:xfrm>
            <a:off x="0" y="5105520"/>
            <a:ext cx="1523880" cy="1676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Globe%20image%20for%20ppt3" descr=""/>
          <p:cNvPicPr/>
          <p:nvPr/>
        </p:nvPicPr>
        <p:blipFill>
          <a:blip r:embed="rId2"/>
          <a:srcRect l="0" t="0" r="0" b="36179"/>
          <a:stretch/>
        </p:blipFill>
        <p:spPr>
          <a:xfrm>
            <a:off x="0" y="0"/>
            <a:ext cx="9199440" cy="6864480"/>
          </a:xfrm>
          <a:prstGeom prst="rect">
            <a:avLst/>
          </a:prstGeom>
          <a:ln w="0">
            <a:noFill/>
          </a:ln>
        </p:spPr>
      </p:pic>
      <p:pic>
        <p:nvPicPr>
          <p:cNvPr id="43" name="logo" descr=""/>
          <p:cNvPicPr/>
          <p:nvPr/>
        </p:nvPicPr>
        <p:blipFill>
          <a:blip r:embed="rId3"/>
          <a:stretch/>
        </p:blipFill>
        <p:spPr>
          <a:xfrm>
            <a:off x="6934320" y="6302520"/>
            <a:ext cx="2209680" cy="5522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Click to edit the outline text format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45720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2" marL="914400" algn="ctr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3" marL="1371600" algn="ctr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4" marL="1828800" algn="ctr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5" marL="18288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6" marL="18288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9.png"/><Relationship Id="rId7" Type="http://schemas.openxmlformats.org/officeDocument/2006/relationships/image" Target="../media/image10.wmf"/><Relationship Id="rId8" Type="http://schemas.openxmlformats.org/officeDocument/2006/relationships/image" Target="../media/image11.wmf"/><Relationship Id="rId9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2.jpeg"/><Relationship Id="rId5" Type="http://schemas.openxmlformats.org/officeDocument/2006/relationships/image" Target="../media/image13.wmf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3000" y="990000"/>
            <a:ext cx="7772400" cy="210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Tahoma"/>
              </a:rPr>
              <a:t>Total LI Compliance using Turn-key Applications and Solutions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114800" y="4010760"/>
            <a:ext cx="5029200" cy="196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Rami Mittelma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466e"/>
                </a:solidFill>
                <a:latin typeface="Arial"/>
              </a:rPr>
              <a:t>V.P.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466e"/>
                </a:solidFill>
                <a:latin typeface="Arial"/>
              </a:rPr>
              <a:t>Product Marketing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RELIANT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  <p:pic>
        <p:nvPicPr>
          <p:cNvPr id="115" name="RELIANT" descr=""/>
          <p:cNvPicPr/>
          <p:nvPr/>
        </p:nvPicPr>
        <p:blipFill>
          <a:blip r:embed="rId1"/>
          <a:stretch/>
        </p:blipFill>
        <p:spPr>
          <a:xfrm>
            <a:off x="1371600" y="1143000"/>
            <a:ext cx="6934320" cy="519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RELIANT - Monitoring Cent</a:t>
            </a: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e</a:t>
            </a: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r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pic>
        <p:nvPicPr>
          <p:cNvPr id="117" name="Reliant_Closeup" descr=""/>
          <p:cNvPicPr/>
          <p:nvPr/>
        </p:nvPicPr>
        <p:blipFill>
          <a:blip r:embed="rId1"/>
          <a:stretch/>
        </p:blipFill>
        <p:spPr>
          <a:xfrm>
            <a:off x="1905120" y="1219320"/>
            <a:ext cx="6807240" cy="51051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600920" y="1136160"/>
            <a:ext cx="1201680" cy="458280"/>
          </a:xfr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Coll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199440" y="2066400"/>
            <a:ext cx="2199600" cy="458280"/>
          </a:xfr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Store Con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565560" y="2824560"/>
            <a:ext cx="1863000" cy="1342440"/>
          </a:xfr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Manag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St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93240" y="4803480"/>
            <a:ext cx="2132640" cy="1784520"/>
          </a:xfr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Revie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Tran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Comprehensive Collection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Network (node) based solut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CALEA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ETSI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RELIANT Enhanced delivery interface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Line tapping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Trunk tapping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3520" y="304920"/>
            <a:ext cx="7620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All Networks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4114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SzPct val="11565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466e"/>
                </a:solidFill>
                <a:latin typeface="Arial"/>
              </a:rPr>
              <a:t>Wireline networks</a:t>
            </a:r>
            <a:endParaRPr b="1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PSTN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ISDN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SzPct val="11565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466e"/>
                </a:solidFill>
                <a:latin typeface="Arial"/>
              </a:rPr>
              <a:t>Wireless networks</a:t>
            </a:r>
            <a:endParaRPr b="1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GSM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TDMA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CDMA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APMS, DAMPS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NMT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410080" y="1600200"/>
            <a:ext cx="3733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SzPct val="11565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466e"/>
                </a:solidFill>
                <a:latin typeface="Arial"/>
              </a:rPr>
              <a:t>Packet data networks</a:t>
            </a:r>
            <a:endParaRPr b="1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ISP 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GPRS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1XRTT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SzPct val="11565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466e"/>
                </a:solidFill>
                <a:latin typeface="Arial"/>
              </a:rPr>
              <a:t>Wireless 3G</a:t>
            </a:r>
            <a:endParaRPr b="1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EDGE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UMTS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SzPct val="11565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466e"/>
                </a:solidFill>
                <a:latin typeface="Arial"/>
              </a:rPr>
              <a:t>Microphone</a:t>
            </a:r>
            <a:endParaRPr b="1" lang="en-US" sz="3200" spc="-1" strike="noStrike">
              <a:solidFill>
                <a:srgbClr val="2a466e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6"/>
          <a:stretch/>
        </p:blipFill>
        <p:spPr>
          <a:xfrm>
            <a:off x="4572000" y="4191120"/>
            <a:ext cx="644400" cy="16002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7"/>
          <a:stretch/>
        </p:blipFill>
        <p:spPr>
          <a:xfrm>
            <a:off x="8321760" y="5867280"/>
            <a:ext cx="822240" cy="6192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8"/>
          <a:stretch/>
        </p:blipFill>
        <p:spPr>
          <a:xfrm>
            <a:off x="4038480" y="2133720"/>
            <a:ext cx="1189080" cy="97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3520" y="304920"/>
            <a:ext cx="7620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All Communication Types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523520" y="1295280"/>
            <a:ext cx="76201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Voice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Telephone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Microphone 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Facsimile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Data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Dial-up modem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Interne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SMS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5"/>
          <a:stretch/>
        </p:blipFill>
        <p:spPr>
          <a:xfrm>
            <a:off x="5029200" y="2514600"/>
            <a:ext cx="8222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23520" y="304920"/>
            <a:ext cx="7620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Open Solution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23520" y="1295280"/>
            <a:ext cx="76201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Comply with Standards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ETSI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CALEA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Open Architecture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Open Database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Open Storage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Web Based - API 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Connection applicat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ExpoSys (push)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23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Information Management 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23520" y="1218960"/>
            <a:ext cx="76201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Hierarchical Target Management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Hierarchical User Management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User’s Access rights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Per targe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Per Operation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4724280" y="1819080"/>
            <a:ext cx="3810240" cy="2403360"/>
            <a:chOff x="4724280" y="1819080"/>
            <a:chExt cx="3810240" cy="2403360"/>
          </a:xfrm>
        </p:grpSpPr>
        <p:pic>
          <p:nvPicPr>
            <p:cNvPr id="139" name="matzeget" descr=""/>
            <p:cNvPicPr/>
            <p:nvPr/>
          </p:nvPicPr>
          <p:blipFill>
            <a:blip r:embed="rId4"/>
            <a:stretch/>
          </p:blipFill>
          <p:spPr>
            <a:xfrm>
              <a:off x="4724280" y="1991160"/>
              <a:ext cx="3810240" cy="223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 rot="18718800">
              <a:off x="5138280" y="1890000"/>
              <a:ext cx="2872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800" spc="-1" strike="noStrike">
                  <a:solidFill>
                    <a:srgbClr val="ffc653"/>
                  </a:solidFill>
                  <a:latin typeface="Arial"/>
                </a:rPr>
                <a:t>™</a:t>
              </a:r>
              <a:endParaRPr b="0" lang="en-US" sz="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18718800">
              <a:off x="6370920" y="1924560"/>
              <a:ext cx="2872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800" spc="-1" strike="noStrike">
                  <a:solidFill>
                    <a:srgbClr val="00cc99"/>
                  </a:solidFill>
                  <a:latin typeface="Arial"/>
                </a:rPr>
                <a:t>™</a:t>
              </a:r>
              <a:endParaRPr b="0" lang="en-US" sz="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" name=""/>
            <p:cNvSpPr/>
            <p:nvPr/>
          </p:nvSpPr>
          <p:spPr>
            <a:xfrm rot="18718800">
              <a:off x="7661160" y="1900800"/>
              <a:ext cx="2872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800" spc="-1" strike="noStrike">
                  <a:solidFill>
                    <a:srgbClr val="990033"/>
                  </a:solidFill>
                  <a:latin typeface="Arial"/>
                </a:rPr>
                <a:t>™</a:t>
              </a:r>
              <a:endParaRPr b="0" lang="en-US" sz="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43" name="" descr=""/>
          <p:cNvPicPr/>
          <p:nvPr/>
        </p:nvPicPr>
        <p:blipFill>
          <a:blip r:embed="rId5"/>
          <a:stretch/>
        </p:blipFill>
        <p:spPr>
          <a:xfrm>
            <a:off x="6858000" y="4876920"/>
            <a:ext cx="155412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23520" y="304920"/>
            <a:ext cx="7620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Growth Products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23520" y="1371600"/>
            <a:ext cx="7620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RELIANT4Data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Fax &amp; Data processing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Archive Server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Long term storage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Court evidence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System Manager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Maintenance &amp; Fault managemen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Archive Server (ARCS)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523520" y="13712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Jukebox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Media management policy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Complete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Call Contents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Call Data (CRI)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Transcription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Court Evidence &amp; Playback Stat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pic>
        <p:nvPicPr>
          <p:cNvPr id="148" name="jukebox" descr=""/>
          <p:cNvPicPr/>
          <p:nvPr/>
        </p:nvPicPr>
        <p:blipFill>
          <a:blip r:embed="rId5"/>
          <a:stretch/>
        </p:blipFill>
        <p:spPr>
          <a:xfrm>
            <a:off x="6095880" y="2666880"/>
            <a:ext cx="2379960" cy="241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Growth Products - Cont.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ExpoSys 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Information distribution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Open Database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RELIANT Visual Analys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Location Trac Station 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Mobile subscriber location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Total LI solution - Why</a:t>
            </a: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 ?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2a466e"/>
                </a:solidFill>
                <a:latin typeface="Arial"/>
              </a:rPr>
              <a:t>Comply with the law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2a466e"/>
                </a:solidFill>
                <a:latin typeface="Arial"/>
              </a:rPr>
              <a:t>Delivery Verificat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LEA need</a:t>
            </a:r>
            <a:r>
              <a:rPr b="1" lang="en-GB" sz="3600" spc="-1" strike="noStrike">
                <a:solidFill>
                  <a:srgbClr val="2a466e"/>
                </a:solidFill>
                <a:latin typeface="Arial"/>
              </a:rPr>
              <a:t>s it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If you know </a:t>
            </a:r>
            <a:r>
              <a:rPr b="1" lang="en-GB" sz="3600" spc="-1" strike="noStrike">
                <a:solidFill>
                  <a:srgbClr val="2a466e"/>
                </a:solidFill>
                <a:latin typeface="Arial"/>
              </a:rPr>
              <a:t>h</a:t>
            </a: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o</a:t>
            </a:r>
            <a:r>
              <a:rPr b="1" lang="en-GB" sz="3600" spc="-1" strike="noStrike">
                <a:solidFill>
                  <a:srgbClr val="2a466e"/>
                </a:solidFill>
                <a:latin typeface="Arial"/>
              </a:rPr>
              <a:t>w to catch the ball you know h</a:t>
            </a: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o</a:t>
            </a:r>
            <a:r>
              <a:rPr b="1" lang="en-GB" sz="3600" spc="-1" strike="noStrike">
                <a:solidFill>
                  <a:srgbClr val="2a466e"/>
                </a:solidFill>
                <a:latin typeface="Arial"/>
              </a:rPr>
              <a:t>w to throw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Security 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AAA &amp; Penetration protect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Authentication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Authorization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Audi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Anti Virus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Network Level Security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Turn Key Solution 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94920" y="914040"/>
            <a:ext cx="7620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RealGate: </a:t>
            </a: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RELIANT Enhanced </a:t>
            </a: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 delivery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Store &amp; Forward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2a466e"/>
                </a:solidFill>
                <a:latin typeface="Arial"/>
              </a:rPr>
              <a:t>Save Communication costs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2a466e"/>
                </a:solidFill>
                <a:latin typeface="Arial"/>
              </a:rPr>
              <a:t>Reliability: ammuns from network disconnection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Compress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27920" indent="-280080" algn="ctr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2a466e"/>
                </a:solidFill>
                <a:latin typeface="Arial"/>
              </a:rPr>
              <a:t>Save Communication costs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Target Administration by LEA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Country wide solution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23520" y="1066680"/>
            <a:ext cx="762012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1447920" y="1069920"/>
          <a:ext cx="7315200" cy="517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069920"/>
                    <a:ext cx="7315200" cy="517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Network optimization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1371600" y="1371600"/>
          <a:ext cx="7543800" cy="471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371600"/>
                    <a:ext cx="7543800" cy="471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End to End experience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Since 1984 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based on AudioDisk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Overall investment of 870 man-years in R&amp;D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Over 550 installed systems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Over 50 countries 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2352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Total LI compliance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523520" y="1447920"/>
            <a:ext cx="76201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The winning team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Products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  <p:pic>
        <p:nvPicPr>
          <p:cNvPr id="167" name="Kobe-Bryant" descr=""/>
          <p:cNvPicPr/>
          <p:nvPr/>
        </p:nvPicPr>
        <p:blipFill>
          <a:blip r:embed="rId2"/>
          <a:stretch/>
        </p:blipFill>
        <p:spPr>
          <a:xfrm>
            <a:off x="6248520" y="1219320"/>
            <a:ext cx="2539800" cy="209376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1523880" y="4114800"/>
            <a:ext cx="76201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Score more points</a:t>
            </a:r>
            <a:br>
              <a:rPr sz="3600"/>
            </a:br>
            <a:r>
              <a:rPr b="1" lang="en-US" sz="36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 Win more gam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3352680"/>
            <a:ext cx="76201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Experi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"/>
          <p:cNvSpPr/>
          <p:nvPr/>
        </p:nvSpPr>
        <p:spPr>
          <a:xfrm>
            <a:off x="1523880" y="2666880"/>
            <a:ext cx="76201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Engine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1" name="PhilJackson-stand" descr=""/>
          <p:cNvPicPr/>
          <p:nvPr/>
        </p:nvPicPr>
        <p:blipFill>
          <a:blip r:embed="rId4"/>
          <a:stretch/>
        </p:blipFill>
        <p:spPr>
          <a:xfrm>
            <a:off x="6095880" y="1905120"/>
            <a:ext cx="2482920" cy="2482560"/>
          </a:xfrm>
          <a:prstGeom prst="rect">
            <a:avLst/>
          </a:prstGeom>
          <a:ln w="0">
            <a:noFill/>
          </a:ln>
        </p:spPr>
      </p:pic>
      <p:pic>
        <p:nvPicPr>
          <p:cNvPr id="172" name="david_stern" descr=""/>
          <p:cNvPicPr/>
          <p:nvPr/>
        </p:nvPicPr>
        <p:blipFill>
          <a:blip r:embed="rId5"/>
          <a:stretch/>
        </p:blipFill>
        <p:spPr>
          <a:xfrm>
            <a:off x="6324480" y="2666880"/>
            <a:ext cx="2324160" cy="3048120"/>
          </a:xfrm>
          <a:prstGeom prst="rect">
            <a:avLst/>
          </a:prstGeom>
          <a:ln w="0">
            <a:noFill/>
          </a:ln>
        </p:spPr>
      </p:pic>
      <p:pic>
        <p:nvPicPr>
          <p:cNvPr id="173" name="bryant_dunk" descr=""/>
          <p:cNvPicPr/>
          <p:nvPr/>
        </p:nvPicPr>
        <p:blipFill>
          <a:blip r:embed="rId6"/>
          <a:stretch/>
        </p:blipFill>
        <p:spPr>
          <a:xfrm>
            <a:off x="6477120" y="3657600"/>
            <a:ext cx="2482560" cy="24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Total LI solution - What</a:t>
            </a: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 ?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90720" y="121896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0f1e"/>
                </a:solidFill>
                <a:latin typeface="Arial"/>
              </a:rPr>
              <a:t>STAR-GATE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Full Network coverage 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0f1e"/>
                </a:solidFill>
                <a:latin typeface="Arial"/>
              </a:rPr>
              <a:t>SAS:</a:t>
            </a: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 Same Administration &amp; Maint.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0f1e"/>
                </a:solidFill>
                <a:latin typeface="Arial"/>
              </a:rPr>
              <a:t>RELIANT:</a:t>
            </a: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 Monitor Center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0f1e"/>
                </a:solidFill>
                <a:latin typeface="Arial"/>
              </a:rPr>
              <a:t>RELIANT4Data:</a:t>
            </a: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 Protocol decoding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0f1e"/>
                </a:solidFill>
                <a:latin typeface="Arial"/>
              </a:rPr>
              <a:t>System solut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Security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Networking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Protocol Decoding Challenge 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95280" y="1066320"/>
            <a:ext cx="784872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Ever-expanding communications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Different access modes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2" marL="1074240" indent="-214560">
              <a:spcBef>
                <a:spcPts val="700"/>
              </a:spcBef>
              <a:buClr>
                <a:srgbClr val="00cc99"/>
              </a:buClr>
              <a:buSzPct val="80000"/>
              <a:buFont typeface="Wingdings" charset="2"/>
              <a:buChar char="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Dial-up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2" marL="1074240" indent="-214560">
              <a:spcBef>
                <a:spcPts val="700"/>
              </a:spcBef>
              <a:buClr>
                <a:srgbClr val="00cc99"/>
              </a:buClr>
              <a:buSzPct val="80000"/>
              <a:buFont typeface="Wingdings" charset="2"/>
              <a:buChar char="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Cable modem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2" marL="1074240" indent="-214560">
              <a:spcBef>
                <a:spcPts val="700"/>
              </a:spcBef>
              <a:buClr>
                <a:srgbClr val="00cc99"/>
              </a:buClr>
              <a:buSzPct val="80000"/>
              <a:buFont typeface="Wingdings" charset="2"/>
              <a:buChar char="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xDSL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Internet, Internet, Interne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2" marL="1074240" indent="-214560">
              <a:spcBef>
                <a:spcPts val="700"/>
              </a:spcBef>
              <a:buClr>
                <a:srgbClr val="00cc99"/>
              </a:buClr>
              <a:buSzPct val="80000"/>
              <a:buFont typeface="Wingdings" charset="2"/>
              <a:buChar char="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New versions, applications, protocols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marL="322200" indent="-32220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Needs for solut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Process various protocols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Passive processing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1760" y="304920"/>
            <a:ext cx="8001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RELIANT4Data: all protocols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523520" y="1371240"/>
            <a:ext cx="7620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Decoding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Fax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Dial-up modem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Interne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Mobile Data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Viewing 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5867280" y="1600200"/>
          <a:ext cx="2548080" cy="2362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67280" y="1600200"/>
                    <a:ext cx="254808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>
                <a:solidFill>
                  <a:srgbClr val="3366cc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Complete Solution: Internet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23880" y="1371600"/>
            <a:ext cx="3200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Internet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WWW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E-mail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FTP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Telne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VoIP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Cha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724280" y="4038480"/>
            <a:ext cx="41148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Mobile Interne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W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4724280" y="1600200"/>
            <a:ext cx="44197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ISP Acces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AOL 5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ComuServe 200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Data Flow - Independent Conf.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828800" y="1219320"/>
          <a:ext cx="7086600" cy="545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7086600" cy="545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Integration with other systems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Open Solut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Standard Input / Output interface 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Integration with...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Delivery system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Line tapping probes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Monitoring Center (MC)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Fast deployment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Cost-to-Cost vs. Team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5T19:31:41Z</dcterms:created>
  <dc:creator>Infosys</dc:creator>
  <dc:description/>
  <cp:keywords>Reliant TND</cp:keywords>
  <dc:language>en-US</dc:language>
  <cp:lastModifiedBy>Infosys</cp:lastModifiedBy>
  <cp:lastPrinted>2001-05-31T19:21:20Z</cp:lastPrinted>
  <dcterms:modified xsi:type="dcterms:W3CDTF">2001-06-04T13:47:31Z</dcterms:modified>
  <cp:revision>18</cp:revision>
  <dc:subject/>
  <dc:title>Total LI Compliance using Turn-key Applications and Solutions</dc:title>
</cp:coreProperties>
</file>