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FD69-2AF2-4F00-A218-21F204C37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B59C-FC6C-4DA8-A3DC-0B04D4E35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759E-3A11-4919-8335-4D0E71741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106A-6AB3-42AD-8AD8-D8BF824E6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6321-D091-4D93-94F9-DB676D69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0C21-36BE-4778-80B1-0F2153FD7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BC8F-1575-40E7-B5A0-93E044D99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0085-3E86-46F3-AF00-8D1EA3AAD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CA29-DFAC-4CA6-9110-4488A068C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F498-5FAC-4CDB-A2B2-B0AFEBC2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0652-AF8B-4028-9FDC-C97D9291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9903-B9FA-44CB-BBD2-8550B31D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163C8-48EE-42A0-825D-2DAC084A8F7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03640" y="301680"/>
            <a:ext cx="460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- Tree: Lawful Inter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51680" y="5680080"/>
            <a:ext cx="18252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029200" y="5811840"/>
            <a:ext cx="111240" cy="66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627000" y="5943600"/>
            <a:ext cx="344520" cy="55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44720" y="5181480"/>
            <a:ext cx="20340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78400" y="896760"/>
            <a:ext cx="52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citt(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264360" y="230040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26200" y="4983120"/>
            <a:ext cx="3179520" cy="573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52960" y="4429080"/>
            <a:ext cx="20340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108320" y="470700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924280" y="1146240"/>
            <a:ext cx="822240" cy="5475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3471480" y="1146240"/>
            <a:ext cx="274680" cy="639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46520" y="1146240"/>
            <a:ext cx="274680" cy="639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46520" y="1146240"/>
            <a:ext cx="1006560" cy="730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563640" y="1876320"/>
            <a:ext cx="1189080" cy="824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196800" y="2700360"/>
            <a:ext cx="366840" cy="5475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64000" y="2700360"/>
            <a:ext cx="457200" cy="54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564000" y="32479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21200" y="3247920"/>
            <a:ext cx="639720" cy="641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197160" y="3889440"/>
            <a:ext cx="1463760" cy="730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111560" y="3889440"/>
            <a:ext cx="549360" cy="82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60920" y="3889440"/>
            <a:ext cx="639720" cy="1096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60920" y="3889440"/>
            <a:ext cx="1279440" cy="5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832120" y="4619520"/>
            <a:ext cx="365040" cy="54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374920" y="5168880"/>
            <a:ext cx="45720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654360" y="4711680"/>
            <a:ext cx="45720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3975120" y="4986360"/>
            <a:ext cx="1325520" cy="944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025600" y="4986360"/>
            <a:ext cx="274680" cy="82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00640" y="4986360"/>
            <a:ext cx="763560" cy="568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00640" y="4986360"/>
            <a:ext cx="1736640" cy="679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757480" y="4437000"/>
            <a:ext cx="182520" cy="366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246200" y="1368360"/>
            <a:ext cx="1448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identified-organization(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4720" y="2192400"/>
            <a:ext cx="50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tsi(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5920" y="2801880"/>
            <a:ext cx="1113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ecurityDomain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3840" y="3335400"/>
            <a:ext cx="583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fraud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5400" y="3335400"/>
            <a:ext cx="1063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awfulIntercept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5600" y="432576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1(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7360" y="440208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2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85320" y="440532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3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60560" y="4021200"/>
            <a:ext cx="50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m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86600" y="4786200"/>
            <a:ext cx="1377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notificationOperation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37880" y="51022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174480" y="467676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75000" y="44560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46160" y="509112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284640" y="5931000"/>
            <a:ext cx="690480" cy="355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41120" y="598500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463640" y="5802480"/>
            <a:ext cx="568440" cy="66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22360" y="58942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45120" y="5559480"/>
            <a:ext cx="27000" cy="919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68680" y="575640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6659640" y="5676840"/>
            <a:ext cx="371520" cy="62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68600" y="5748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01800" y="5530680"/>
            <a:ext cx="718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ircuitLI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93440" y="5521320"/>
            <a:ext cx="753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tETRALI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82280" y="5435640"/>
            <a:ext cx="715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PRSLI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63560" y="5216400"/>
            <a:ext cx="70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clinkLI(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8236080" y="5553000"/>
            <a:ext cx="280800" cy="736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86360" y="5721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32120" y="4894200"/>
            <a:ext cx="651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gSMLI(5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01920" y="4470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82520" y="5181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95400" y="61786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35320" y="608652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00640" y="590400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876240" y="3886200"/>
            <a:ext cx="3772080" cy="7905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0200" y="4408560"/>
            <a:ext cx="41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0000"/>
                </a:solidFill>
                <a:latin typeface="Times New Roman"/>
              </a:rPr>
              <a:t>3G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4724280"/>
            <a:ext cx="466560" cy="4096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4840" y="4695840"/>
            <a:ext cx="561960" cy="4190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866880" y="4705200"/>
            <a:ext cx="38160" cy="4478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61440" y="485136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Times New Roman"/>
              </a:rPr>
              <a:t>hi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94880" y="487980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Times New Roman"/>
              </a:rPr>
              <a:t>hi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3200" y="477504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Times New Roman"/>
              </a:rPr>
              <a:t>hi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57200" y="5143680"/>
            <a:ext cx="409680" cy="3045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1480" y="5505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4T11:46:07Z</dcterms:created>
  <dc:creator>Wolfgang Schumacher</dc:creator>
  <dc:description/>
  <dc:language>en-US</dc:language>
  <cp:lastModifiedBy>m.b.</cp:lastModifiedBy>
  <cp:lastPrinted>2000-11-29T10:02:02Z</cp:lastPrinted>
  <dcterms:modified xsi:type="dcterms:W3CDTF">2002-01-30T15:15:58Z</dcterms:modified>
  <cp:revision>39</cp:revision>
  <dc:subject/>
  <dc:title>Kein Folientitel</dc:title>
</cp:coreProperties>
</file>